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048C-59B3-4743-82ED-BA770514C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A12B-06B4-43F4-8F91-40D9223A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AC38-75CA-4105-83CC-0CF0C3EB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04CF-8B0A-44FB-8308-2ABC19AA5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791B-4102-4859-BF98-0420B931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4ECA-419B-4B4C-A562-84592BA1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7142-646F-445C-A92A-AD132CFF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126A-0802-499B-9896-488281CA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6CEE-727A-4482-ABB1-CE6E2BEF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C8E9-DB88-4E21-93FD-A5638B5E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0630-3087-4176-B3EA-2FCABE04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0E51-1590-4834-9114-D9AD2B0D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00F1-11F0-4E08-B062-FCA966F42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50states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hyperlink" Target="http://kentucky.gov/" TargetMode="External"/><Relationship Id="rId4" Type="http://schemas.openxmlformats.org/officeDocument/2006/relationships/hyperlink" Target="http://bensguide.gpo.gov/3-5/state/kentucky.html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www.postcardsfrom.com/stamp/stamp-ky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457200"/>
            <a:ext cx="75438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50000">
                      <a:srgbClr val="ffebfa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Kentucky</a:t>
            </a:r>
            <a:endParaRPr b="0" lang="en-US" sz="1800" spc="1" strike="noStrike">
              <a:ln w="381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50000">
                    <a:srgbClr val="ffebfa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4876920"/>
            <a:ext cx="60195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20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685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733920" y="380880"/>
            <a:ext cx="41907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ntucky So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10/7/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50stat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Name: Kentuc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Capital: Frank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: 4,041,7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ed The Union: 6/17/1769, 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to: united we stand, divided we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name: The Bluegrass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Flower: Goldenr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Bird: Card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song: My old Kentucky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behind name: based on an Indian word meaning land of 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0" y="2971800"/>
            <a:ext cx="1665360" cy="1704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410080" y="3809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67480" y="487692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00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9000"/>
                            </p:stCondLst>
                            <p:childTnLst>
                              <p:par>
                                <p:cTn id="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Kentucky: Map and State Flag"/>
          <p:cNvPicPr/>
          <p:nvPr/>
        </p:nvPicPr>
        <p:blipFill>
          <a:blip r:embed="rId1"/>
          <a:srcRect l="8002" t="0" r="8116" b="53678"/>
          <a:stretch/>
        </p:blipFill>
        <p:spPr>
          <a:xfrm>
            <a:off x="304920" y="457200"/>
            <a:ext cx="3200400" cy="1447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Kentucky: Map and State Flag"/>
          <p:cNvPicPr/>
          <p:nvPr/>
        </p:nvPicPr>
        <p:blipFill>
          <a:blip r:embed="rId2"/>
          <a:srcRect l="0" t="48796" r="0" b="0"/>
          <a:stretch/>
        </p:blipFill>
        <p:spPr>
          <a:xfrm>
            <a:off x="5105520" y="2438280"/>
            <a:ext cx="38145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90720" y="4495680"/>
            <a:ext cx="6172200" cy="209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’s Guide to U.S. Government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uick Facts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Kentuc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 September 201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bensguide.gpo.gov/3-5/state/kentucky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© 1999 WriteLine. Goldenrod"/>
          <p:cNvPicPr/>
          <p:nvPr/>
        </p:nvPicPr>
        <p:blipFill>
          <a:blip r:embed="rId1"/>
          <a:stretch/>
        </p:blipFill>
        <p:spPr>
          <a:xfrm>
            <a:off x="762120" y="380880"/>
            <a:ext cx="2377800" cy="2819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© 1999 WriteLine. Cardinal"/>
          <p:cNvPicPr/>
          <p:nvPr/>
        </p:nvPicPr>
        <p:blipFill>
          <a:blip r:embed="rId2"/>
          <a:stretch/>
        </p:blipFill>
        <p:spPr>
          <a:xfrm>
            <a:off x="5181480" y="609480"/>
            <a:ext cx="3324240" cy="3429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90720" y="4952880"/>
            <a:ext cx="4572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 From Americ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ntucky State Stamp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23/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ostcardsfrom.com/stamp/stamp-k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37339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ntucky is a state filled will beau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21:38Z</dcterms:created>
  <dc:creator>install</dc:creator>
  <dc:description/>
  <dc:language>en-US</dc:language>
  <cp:lastModifiedBy>install</cp:lastModifiedBy>
  <dcterms:modified xsi:type="dcterms:W3CDTF">2010-10-14T13:19:47Z</dcterms:modified>
  <cp:revision>17</cp:revision>
  <dc:subject/>
  <dc:title>Slide 1</dc:title>
</cp:coreProperties>
</file>